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33A3F-AA24-4244-B9E2-5EBFBD782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B6912-8A17-4BE3-AFA7-79A22B572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255E4-D08E-40BA-836C-13BC9D7E5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B9AE3-3FAB-4479-A9E9-A615D39DB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75A6-259A-46B6-9537-F0DAB1EE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3579-07D1-4ED5-BC60-F1FF1266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8D53-9860-45AF-B0F9-3A5AAE77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B66BE-8241-4EF5-B09E-91CAB8F4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22E5-9AA1-404E-8A6E-2DEF86A6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042D-3949-4B24-910A-86E24B441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6880-AF1E-401F-9F83-8FD63961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277D-31CF-4697-90DD-624434963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5A53-7D9D-4E69-B1D3-628B367ABE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00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NTRATTO DI SERVIZIO 2022/2024</a:t>
            </a:r>
            <a:endParaRPr b="0" lang="en-US" sz="3200" spc="-1" strike="noStrike">
              <a:solidFill>
                <a:srgbClr val="000000"/>
              </a:solidFill>
              <a:latin typeface="Arial"/>
            </a:endParaRPr>
          </a:p>
        </p:txBody>
      </p:sp>
      <p:sp>
        <p:nvSpPr>
          <p:cNvPr id="42" name="PlaceHolder 2"/>
          <p:cNvSpPr>
            <a:spLocks noGrp="1"/>
          </p:cNvSpPr>
          <p:nvPr>
            <p:ph type="subTitle"/>
          </p:nvPr>
        </p:nvSpPr>
        <p:spPr>
          <a:xfrm>
            <a:off x="1676520" y="3123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HEDA TECNICA N. 3</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u="sng">
                <a:solidFill>
                  <a:srgbClr val="333399"/>
                </a:solidFill>
                <a:uFillTx/>
                <a:latin typeface="Arial Unicode MS"/>
              </a:rPr>
              <a:t>REDDITO DI CITTADINANZA</a:t>
            </a:r>
            <a:endParaRPr b="0" lang="en-US" sz="3200" spc="-1" strike="noStrike">
              <a:solidFill>
                <a:srgbClr val="000000"/>
              </a:solidFill>
              <a:latin typeface="Arial"/>
            </a:endParaRPr>
          </a:p>
        </p:txBody>
      </p:sp>
      <p:pic>
        <p:nvPicPr>
          <p:cNvPr id="43" name="Picture 4" descr=""/>
          <p:cNvPicPr/>
          <p:nvPr/>
        </p:nvPicPr>
        <p:blipFill>
          <a:blip r:embed="rId1"/>
          <a:stretch/>
        </p:blipFill>
        <p:spPr>
          <a:xfrm>
            <a:off x="3657600" y="0"/>
            <a:ext cx="2286000" cy="1057320"/>
          </a:xfrm>
          <a:prstGeom prst="rect">
            <a:avLst/>
          </a:prstGeom>
          <a:ln w="0">
            <a:noFill/>
          </a:ln>
        </p:spPr>
      </p:pic>
      <p:pic>
        <p:nvPicPr>
          <p:cNvPr id="44" name="Picture 5" descr=""/>
          <p:cNvPicPr/>
          <p:nvPr/>
        </p:nvPicPr>
        <p:blipFill>
          <a:blip r:embed="rId2"/>
          <a:stretch/>
        </p:blipFill>
        <p:spPr>
          <a:xfrm>
            <a:off x="0" y="0"/>
            <a:ext cx="1295280" cy="1114560"/>
          </a:xfrm>
          <a:prstGeom prst="rect">
            <a:avLst/>
          </a:prstGeom>
          <a:ln w="0">
            <a:noFill/>
          </a:ln>
        </p:spPr>
      </p:pic>
      <p:pic>
        <p:nvPicPr>
          <p:cNvPr id="45" name="Picture 8" descr=""/>
          <p:cNvPicPr/>
          <p:nvPr/>
        </p:nvPicPr>
        <p:blipFill>
          <a:blip r:embed="rId3"/>
          <a:stretch/>
        </p:blipFill>
        <p:spPr>
          <a:xfrm>
            <a:off x="6400800" y="6246720"/>
            <a:ext cx="2743200" cy="611280"/>
          </a:xfrm>
          <a:prstGeom prst="rect">
            <a:avLst/>
          </a:prstGeom>
          <a:ln w="0">
            <a:noFill/>
          </a:ln>
        </p:spPr>
      </p:pic>
      <p:pic>
        <p:nvPicPr>
          <p:cNvPr id="46" name="Picture 9" descr=""/>
          <p:cNvPicPr/>
          <p:nvPr/>
        </p:nvPicPr>
        <p:blipFill>
          <a:blip r:embed="rId4"/>
          <a:stretch/>
        </p:blipFill>
        <p:spPr>
          <a:xfrm>
            <a:off x="0" y="6308640"/>
            <a:ext cx="1600200" cy="549360"/>
          </a:xfrm>
          <a:prstGeom prst="rect">
            <a:avLst/>
          </a:prstGeom>
          <a:ln w="0">
            <a:noFill/>
          </a:ln>
        </p:spPr>
      </p:pic>
      <p:pic>
        <p:nvPicPr>
          <p:cNvPr id="47" name="Picture 10" descr=""/>
          <p:cNvPicPr/>
          <p:nvPr/>
        </p:nvPicPr>
        <p:blipFill>
          <a:blip r:embed="rId5"/>
          <a:stretch/>
        </p:blipFill>
        <p:spPr>
          <a:xfrm>
            <a:off x="3429000" y="4419720"/>
            <a:ext cx="3048120" cy="1344600"/>
          </a:xfrm>
          <a:prstGeom prst="rect">
            <a:avLst/>
          </a:prstGeom>
          <a:ln w="0">
            <a:noFill/>
          </a:ln>
        </p:spPr>
      </p:pic>
      <p:sp>
        <p:nvSpPr>
          <p:cNvPr id="48" name="Text Box 11"/>
          <p:cNvSpPr/>
          <p:nvPr/>
        </p:nvSpPr>
        <p:spPr>
          <a:xfrm>
            <a:off x="914400" y="152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une di Masi Torello</a:t>
            </a:r>
            <a:endParaRPr b="0" lang="en-US" sz="1400" spc="-1" strike="noStrike">
              <a:solidFill>
                <a:srgbClr val="000000"/>
              </a:solidFill>
              <a:latin typeface="Arial"/>
            </a:endParaRPr>
          </a:p>
        </p:txBody>
      </p:sp>
      <p:pic>
        <p:nvPicPr>
          <p:cNvPr id="49" name="Picture 12" descr=""/>
          <p:cNvPicPr/>
          <p:nvPr/>
        </p:nvPicPr>
        <p:blipFill>
          <a:blip r:embed="rId6"/>
          <a:stretch/>
        </p:blipFill>
        <p:spPr>
          <a:xfrm>
            <a:off x="7010280" y="0"/>
            <a:ext cx="2133720" cy="105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5"/>
          <p:cNvSpPr/>
          <p:nvPr/>
        </p:nvSpPr>
        <p:spPr>
          <a:xfrm>
            <a:off x="60948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REDDITO DI CITTADINANZA</a:t>
            </a:r>
            <a:endParaRPr b="0" lang="en-US" sz="2800" spc="-1" strike="noStrike">
              <a:solidFill>
                <a:srgbClr val="000000"/>
              </a:solidFill>
              <a:latin typeface="Arial"/>
            </a:endParaRPr>
          </a:p>
        </p:txBody>
      </p:sp>
      <p:graphicFrame>
        <p:nvGraphicFramePr>
          <p:cNvPr id="51" name=""/>
          <p:cNvGraphicFramePr/>
          <p:nvPr/>
        </p:nvGraphicFramePr>
        <p:xfrm>
          <a:off x="457200" y="1143000"/>
          <a:ext cx="8381880" cy="2971800"/>
        </p:xfrm>
        <a:graphic>
          <a:graphicData uri="http://schemas.openxmlformats.org/drawingml/2006/table">
            <a:tbl>
              <a:tblPr/>
              <a:tblGrid>
                <a:gridCol w="2482920"/>
                <a:gridCol w="5898960"/>
              </a:tblGrid>
              <a:tr h="685800">
                <a:tc rowSpan="6">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CCOMPAGNAMENTO DEL BENEFICIARIO NEL PERCORSO DI INCLUSIONE SOCI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LLOQUIO DI ORIENTA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GETTO DI SOCIALIZZAZI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TTO DI INCLUSIONE SOCI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ERIFICA ADEMPIMEN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72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PORTO VERIFICHE ANAGRAFICH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2" name="Picture 22" descr=""/>
          <p:cNvPicPr/>
          <p:nvPr/>
        </p:nvPicPr>
        <p:blipFill>
          <a:blip r:embed="rId1"/>
          <a:stretch/>
        </p:blipFill>
        <p:spPr>
          <a:xfrm>
            <a:off x="533520" y="2362320"/>
            <a:ext cx="2209680" cy="97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30"/>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REDDITO DI CITTADINANZA</a:t>
            </a:r>
            <a:endParaRPr b="0" lang="en-US" sz="2800" spc="-1" strike="noStrike">
              <a:solidFill>
                <a:srgbClr val="000000"/>
              </a:solidFill>
              <a:latin typeface="Arial"/>
            </a:endParaRPr>
          </a:p>
        </p:txBody>
      </p:sp>
      <p:graphicFrame>
        <p:nvGraphicFramePr>
          <p:cNvPr id="54" name=""/>
          <p:cNvGraphicFramePr/>
          <p:nvPr/>
        </p:nvGraphicFramePr>
        <p:xfrm>
          <a:off x="457200" y="770040"/>
          <a:ext cx="8229600" cy="2438280"/>
        </p:xfrm>
        <a:graphic>
          <a:graphicData uri="http://schemas.openxmlformats.org/drawingml/2006/table">
            <a:tbl>
              <a:tblPr/>
              <a:tblGrid>
                <a:gridCol w="1600200"/>
                <a:gridCol w="6629400"/>
              </a:tblGrid>
              <a:tr h="77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DESCRIZIONE ED OBIETTIVI</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Sociale Adulti si occupa per i Comuni di Ferrara, Masi Torello e Voghiera della sottoscrizione dei patti per l’inclusione sociale da parte dei beneficiari del reddito di cittadinanz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inoltre coadiuva il Comune di Ferrara nelle verifiche del requisito della permanenza sul territorio dei beneficiari del Reddito di cittadinanz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6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DESTINATARI</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utti i beneficiari del reddito di cittadinanza che non possono sottoscrivere i patti per il lavoro e per i quali si rende necessaria la sottoscrizione dei Patti per l’Inclusione Social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80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MODALITA’ DI ATTIVAZIO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ufficio, a seguito della percezione del reddito di cittadinanz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09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PERSONA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ervizio viene erogato a mezzo di personale avente profilo socio assistenziale ed esperienza professionale specifica e qualificata. Il servizio sarà distribuito su dodici mensilità con un’articolazione settimanale ed oraria che consente di presidiare il rapporto con gli utenti ed il lavoro di rete con le organizzazioni del territorio garantendo l’erogazione delle prestazioni.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0"/>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REDDITO DI CITTADINANZA</a:t>
            </a:r>
            <a:endParaRPr b="0" lang="en-US" sz="2800" spc="-1" strike="noStrike">
              <a:solidFill>
                <a:srgbClr val="000000"/>
              </a:solidFill>
              <a:latin typeface="Arial"/>
            </a:endParaRPr>
          </a:p>
        </p:txBody>
      </p:sp>
      <p:graphicFrame>
        <p:nvGraphicFramePr>
          <p:cNvPr id="56" name=""/>
          <p:cNvGraphicFramePr/>
          <p:nvPr/>
        </p:nvGraphicFramePr>
        <p:xfrm>
          <a:off x="457200" y="762120"/>
          <a:ext cx="8255160" cy="2977920"/>
        </p:xfrm>
        <a:graphic>
          <a:graphicData uri="http://schemas.openxmlformats.org/drawingml/2006/table">
            <a:tbl>
              <a:tblPr/>
              <a:tblGrid>
                <a:gridCol w="1219320"/>
                <a:gridCol w="2286000"/>
                <a:gridCol w="4749840"/>
              </a:tblGrid>
              <a:tr h="244080">
                <a:tc rowSpan="8">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ea typeface="Times New Roman"/>
                        </a:rPr>
                        <a:t>PRESTAZIONI OFFER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rowSpan="3">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CCOMPAGNAMENTO DEL BENEFICIARIO NEL PERCORSO DI INCLUSIONE SOCIAL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corsi di inclusione sociale all’interno di realtà associative e centri social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440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corsi formativ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26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irocini formativi e socializzant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440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LLOQUIO DI ORIENTAMEN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colloqui di orientament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440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OGETTO DI SOCIALIZZAZI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laborazione dei progetti di socializzazion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280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ATTO DI INCLUSIONE SOCIAL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laborazione dei patt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440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VERIFICA ADEMPIMEN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erifica adempimenti assunti dal beneficiario con il patto di inclusion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547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SUPPORTO VERIFICHE ANAGRAFICH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contri con i beneficiari per l’accertamento dei requisiti</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86"/>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333399"/>
                </a:solidFill>
                <a:uFillTx/>
                <a:latin typeface="Arial Unicode MS"/>
              </a:rPr>
              <a:t>REDDITO DI CITTADINANZA</a:t>
            </a:r>
            <a:endParaRPr b="0" lang="en-US" sz="2800" spc="-1" strike="noStrike">
              <a:solidFill>
                <a:srgbClr val="000000"/>
              </a:solidFill>
              <a:latin typeface="Arial"/>
            </a:endParaRPr>
          </a:p>
        </p:txBody>
      </p:sp>
      <p:graphicFrame>
        <p:nvGraphicFramePr>
          <p:cNvPr id="58" name=""/>
          <p:cNvGraphicFramePr/>
          <p:nvPr/>
        </p:nvGraphicFramePr>
        <p:xfrm>
          <a:off x="533520" y="914400"/>
          <a:ext cx="8001000" cy="3370320"/>
        </p:xfrm>
        <a:graphic>
          <a:graphicData uri="http://schemas.openxmlformats.org/drawingml/2006/table">
            <a:tbl>
              <a:tblPr/>
              <a:tblGrid>
                <a:gridCol w="2519280"/>
                <a:gridCol w="2814480"/>
                <a:gridCol w="2667240"/>
              </a:tblGrid>
              <a:tr h="254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ff"/>
                          </a:solidFill>
                          <a:latin typeface="Arial"/>
                          <a:ea typeface="Times New Roman"/>
                        </a:rPr>
                        <a:t>PRESTAZIONE OFFER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TTIVITA’SOGGETTA A MONITORAGG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rPr>
                        <a:t>INDICATOREDI RILEVAZIONE</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alpha val="50000"/>
                      </a:srgbClr>
                    </a:solidFill>
                  </a:tcPr>
                </a:tc>
              </a:tr>
              <a:tr h="3985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CCOMPAGNAMENTO DEL BENEFICIARIO NEL PERCORSO DI INCLUSIONE SOCIAL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corsi di inclusione sociale all’interno di realtà associative e centri social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 Enti del Terzo Settore coinvolti/ n. Enti presenti sul territori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545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corsi formativ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 Percorsi formativi attivati/ n. richies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2548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irocini formativi e socializzan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 Tirocini avviati/ n. richies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LLOQUIO DI ORIENTAMENT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colloqui di orientamen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 Colloqui/ n. persone che hanno fatto richiesta di RdC</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OGETTO DI SOCIALIZZAZION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laborazione dei progetti di socializzazi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 Progetti elaborati/ n. persone che hanno fatto richiesta di RdC</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ATTO DI INCLUSIONE SOCIAL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laborazione dei pat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 Patti sottoscritti/n. persone che hanno fatto richiesta di RdC</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VERIFICA ADEMPIMENT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erifica adempimenti assunti dal beneficiario con il patto di inclusi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 Segnalazioni di inadempimento/ n. persone beneficiari di RdC</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8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SUPPORTO VERIFICHE ANAGRAFICH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contri con i beneficiari per l’accertamento dei requisi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 Beneficiari di RdC contattati/ n. di accertamenti da eseguir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04T11:11:57Z</dcterms:created>
  <dc:creator>Chiarini Monica</dc:creator>
  <dc:description/>
  <dc:language>en-US</dc:language>
  <cp:lastModifiedBy>e.navaro</cp:lastModifiedBy>
  <dcterms:modified xsi:type="dcterms:W3CDTF">2022-04-07T09:40:49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