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52312-D62F-4D31-BD8F-DA73B13A3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4BE2A-D5A4-49F9-9232-0089E5275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6B2F4-C437-46CF-89FF-3EC2613C3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C50B3-9D6E-4B06-818F-651C440DD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B486-D294-4EAD-AF6F-F24AB59D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B1EF-65D5-447B-ABF7-6699F763C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8B6D-61BB-4826-9D7F-1666396C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659C-BD21-4CC8-A653-42ABF725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9CBA-1F6F-42D5-BAF5-F89FDDDC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A28B-9AFC-427E-96C4-A4DCB7D6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7661-E7D4-42A0-8EBF-7119DE8EC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7D3C-E255-4C4E-ABD1-7AB6B3C0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3553-4A09-4278-B51F-E9156A7622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00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NTRATTO DI SERVIZIO 2022/2024</a:t>
            </a:r>
            <a:endParaRPr b="0" lang="en-US" sz="3200" spc="-1" strike="noStrike">
              <a:solidFill>
                <a:srgbClr val="000000"/>
              </a:solidFill>
              <a:latin typeface="Arial"/>
            </a:endParaRPr>
          </a:p>
        </p:txBody>
      </p:sp>
      <p:sp>
        <p:nvSpPr>
          <p:cNvPr id="42" name="PlaceHolder 2"/>
          <p:cNvSpPr>
            <a:spLocks noGrp="1"/>
          </p:cNvSpPr>
          <p:nvPr>
            <p:ph type="subTitle"/>
          </p:nvPr>
        </p:nvSpPr>
        <p:spPr>
          <a:xfrm>
            <a:off x="1676520" y="3123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HEDA TECNICA N. 2</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u="sng">
                <a:solidFill>
                  <a:srgbClr val="333399"/>
                </a:solidFill>
                <a:uFillTx/>
                <a:latin typeface="Arial Unicode MS"/>
              </a:rPr>
              <a:t>SERVIZIO ADULTI</a:t>
            </a:r>
            <a:endParaRPr b="0" lang="en-US" sz="3200" spc="-1" strike="noStrike">
              <a:solidFill>
                <a:srgbClr val="000000"/>
              </a:solidFill>
              <a:latin typeface="Arial"/>
            </a:endParaRPr>
          </a:p>
        </p:txBody>
      </p:sp>
      <p:pic>
        <p:nvPicPr>
          <p:cNvPr id="43" name="Picture 4" descr=""/>
          <p:cNvPicPr/>
          <p:nvPr/>
        </p:nvPicPr>
        <p:blipFill>
          <a:blip r:embed="rId1"/>
          <a:stretch/>
        </p:blipFill>
        <p:spPr>
          <a:xfrm>
            <a:off x="3657600" y="0"/>
            <a:ext cx="2286000" cy="1057320"/>
          </a:xfrm>
          <a:prstGeom prst="rect">
            <a:avLst/>
          </a:prstGeom>
          <a:ln w="0">
            <a:noFill/>
          </a:ln>
        </p:spPr>
      </p:pic>
      <p:pic>
        <p:nvPicPr>
          <p:cNvPr id="44" name="Picture 5" descr=""/>
          <p:cNvPicPr/>
          <p:nvPr/>
        </p:nvPicPr>
        <p:blipFill>
          <a:blip r:embed="rId2"/>
          <a:stretch/>
        </p:blipFill>
        <p:spPr>
          <a:xfrm>
            <a:off x="0" y="0"/>
            <a:ext cx="1295280" cy="1114560"/>
          </a:xfrm>
          <a:prstGeom prst="rect">
            <a:avLst/>
          </a:prstGeom>
          <a:ln w="0">
            <a:noFill/>
          </a:ln>
        </p:spPr>
      </p:pic>
      <p:pic>
        <p:nvPicPr>
          <p:cNvPr id="45" name="Picture 8" descr=""/>
          <p:cNvPicPr/>
          <p:nvPr/>
        </p:nvPicPr>
        <p:blipFill>
          <a:blip r:embed="rId3"/>
          <a:stretch/>
        </p:blipFill>
        <p:spPr>
          <a:xfrm>
            <a:off x="6400800" y="6246720"/>
            <a:ext cx="2743200" cy="611280"/>
          </a:xfrm>
          <a:prstGeom prst="rect">
            <a:avLst/>
          </a:prstGeom>
          <a:ln w="0">
            <a:noFill/>
          </a:ln>
        </p:spPr>
      </p:pic>
      <p:pic>
        <p:nvPicPr>
          <p:cNvPr id="46" name="Picture 9" descr=""/>
          <p:cNvPicPr/>
          <p:nvPr/>
        </p:nvPicPr>
        <p:blipFill>
          <a:blip r:embed="rId4"/>
          <a:stretch/>
        </p:blipFill>
        <p:spPr>
          <a:xfrm>
            <a:off x="0" y="6308640"/>
            <a:ext cx="1600200" cy="549360"/>
          </a:xfrm>
          <a:prstGeom prst="rect">
            <a:avLst/>
          </a:prstGeom>
          <a:ln w="0">
            <a:noFill/>
          </a:ln>
        </p:spPr>
      </p:pic>
      <p:pic>
        <p:nvPicPr>
          <p:cNvPr id="47" name="Picture 11" descr=""/>
          <p:cNvPicPr/>
          <p:nvPr/>
        </p:nvPicPr>
        <p:blipFill>
          <a:blip r:embed="rId5"/>
          <a:stretch/>
        </p:blipFill>
        <p:spPr>
          <a:xfrm>
            <a:off x="7010280" y="0"/>
            <a:ext cx="2133720" cy="1055520"/>
          </a:xfrm>
          <a:prstGeom prst="rect">
            <a:avLst/>
          </a:prstGeom>
          <a:ln w="0">
            <a:noFill/>
          </a:ln>
        </p:spPr>
      </p:pic>
      <p:sp>
        <p:nvSpPr>
          <p:cNvPr id="48" name="Text Box 12"/>
          <p:cNvSpPr/>
          <p:nvPr/>
        </p:nvSpPr>
        <p:spPr>
          <a:xfrm>
            <a:off x="914400" y="152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une di Masi Torello</a:t>
            </a:r>
            <a:endParaRPr b="0" lang="en-US" sz="1400" spc="-1" strike="noStrike">
              <a:solidFill>
                <a:srgbClr val="000000"/>
              </a:solidFill>
              <a:latin typeface="Arial"/>
            </a:endParaRPr>
          </a:p>
        </p:txBody>
      </p:sp>
      <p:pic>
        <p:nvPicPr>
          <p:cNvPr id="49" name="" descr=""/>
          <p:cNvPicPr/>
          <p:nvPr/>
        </p:nvPicPr>
        <p:blipFill>
          <a:blip r:embed="rId6"/>
          <a:stretch/>
        </p:blipFill>
        <p:spPr>
          <a:xfrm>
            <a:off x="3809880" y="4419720"/>
            <a:ext cx="2210040" cy="176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60948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SERVIZIO ADULTI</a:t>
            </a:r>
            <a:endParaRPr b="0" lang="en-US" sz="2800" spc="-1" strike="noStrike">
              <a:solidFill>
                <a:srgbClr val="000000"/>
              </a:solidFill>
              <a:latin typeface="Arial"/>
            </a:endParaRPr>
          </a:p>
        </p:txBody>
      </p:sp>
      <p:graphicFrame>
        <p:nvGraphicFramePr>
          <p:cNvPr id="51" name=""/>
          <p:cNvGraphicFramePr/>
          <p:nvPr/>
        </p:nvGraphicFramePr>
        <p:xfrm>
          <a:off x="457200" y="1143000"/>
          <a:ext cx="8381880" cy="4587840"/>
        </p:xfrm>
        <a:graphic>
          <a:graphicData uri="http://schemas.openxmlformats.org/drawingml/2006/table">
            <a:tbl>
              <a:tblPr/>
              <a:tblGrid>
                <a:gridCol w="2482920"/>
                <a:gridCol w="5898960"/>
              </a:tblGrid>
              <a:tr h="685800">
                <a:tc row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GETTUALITA’ INDIVIDUALIZZATE PER PERSONE DISABIL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TERVENTI A SOSTEGNO DEL DISAGIO SOCI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094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STEGNO ALL’AUTONOMIA ED INCLUSIONE LAVORATIVA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TERVENTI DI SOSTEGNO ECONOMI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EGNI DI CUR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STEGNO AI CAREGIV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098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SERIMENTI IN STRUTTURA SOCIO RIABILITATIVA DIURNA E RESIDENZIAL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269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BORATORI PROTET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269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RVIZIO INSERIMENTO LAVORATIV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2" name="" descr=""/>
          <p:cNvPicPr/>
          <p:nvPr/>
        </p:nvPicPr>
        <p:blipFill>
          <a:blip r:embed="rId1"/>
          <a:stretch/>
        </p:blipFill>
        <p:spPr>
          <a:xfrm>
            <a:off x="609480" y="2590920"/>
            <a:ext cx="2210040" cy="176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30"/>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SERVIZIO ADULTI</a:t>
            </a:r>
            <a:endParaRPr b="0" lang="en-US" sz="2800" spc="-1" strike="noStrike">
              <a:solidFill>
                <a:srgbClr val="000000"/>
              </a:solidFill>
              <a:latin typeface="Arial"/>
            </a:endParaRPr>
          </a:p>
        </p:txBody>
      </p:sp>
      <p:graphicFrame>
        <p:nvGraphicFramePr>
          <p:cNvPr id="54" name=""/>
          <p:cNvGraphicFramePr/>
          <p:nvPr/>
        </p:nvGraphicFramePr>
        <p:xfrm>
          <a:off x="457200" y="838080"/>
          <a:ext cx="8229600" cy="5334120"/>
        </p:xfrm>
        <a:graphic>
          <a:graphicData uri="http://schemas.openxmlformats.org/drawingml/2006/table">
            <a:tbl>
              <a:tblPr/>
              <a:tblGrid>
                <a:gridCol w="1600200"/>
                <a:gridCol w="6629400"/>
              </a:tblGrid>
              <a:tr h="1775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DESCRIZIONE ED OBIETTIVI</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Sociale Adulti si rivolge ai cittadini dei Comuni di Ferrara, Masi Torello e Voghiera nella fascia di età che va da 18 a 65 anni </a:t>
                      </a:r>
                      <a:endParaRPr b="0" lang="en-US" sz="10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ura la presa in carico di persone adulte in situazione di disagio sociale e di disabilità in considerazione delle diverse fasce di età.  L'intervento socio-assistenziale e socio-educativo si sviluppa attraverso progetti e servizi che favoriscono l'autonomia della persona, rimuovendo per quanto possibile le cause del disagio ed evitare un processo di dipendenza assistenziale.</a:t>
                      </a:r>
                      <a:endParaRPr b="0" lang="en-US" sz="10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si suddivide in tre aree:</a:t>
                      </a:r>
                      <a:endParaRPr b="0" lang="en-US" sz="1000" spc="-1" strike="noStrike">
                        <a:solidFill>
                          <a:srgbClr val="000000"/>
                        </a:solidFill>
                        <a:latin typeface="Arial"/>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rea Disabilità (congenite ed acquisite)</a:t>
                      </a:r>
                      <a:endParaRPr b="0" lang="en-US" sz="1000" spc="-1" strike="noStrike">
                        <a:solidFill>
                          <a:srgbClr val="000000"/>
                        </a:solidFill>
                        <a:latin typeface="Arial"/>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rea Disagio Sociale</a:t>
                      </a:r>
                      <a:endParaRPr b="0" lang="en-US" sz="1000" spc="-1" strike="noStrike">
                        <a:solidFill>
                          <a:srgbClr val="000000"/>
                        </a:solidFill>
                        <a:latin typeface="Arial"/>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izio di sostegno all’autonomia e all’inclusione socio-lavorativ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717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DESTINATARI</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in situazione di disabilità psico-fisica lieve, medio-grave e grave; </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in situazione di disabilità determinata da gravi cerebrolesioni e con esiti da traumi cranio-encefalici;</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in situazione di povertà; </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senza dimora;</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con "forme" di disagio psichico in stato di compenso e/o con pregressi di dipendenze; </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in situazione di tratta e sfruttamento lavorativo e sessuale;</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con esiti invalidanti da patologie cliniche ‘acute’ ;</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sone immigrate, con regolare permesso di soggiorno;</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etenuti e post detenuti;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71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MODALITA’ DI ATTIVAZIO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u istanza di parte, attraverso lo Sportello Sociale Unico Integrato (SSUI) o compilando ed inviando l’apposita modulistica online (quando disponibile)</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ufficio attraverso le segnalazioni Istituzionali </a:t>
                      </a:r>
                      <a:endParaRPr b="0" lang="en-US" sz="1000" spc="-1" strike="noStrike">
                        <a:solidFill>
                          <a:srgbClr val="000000"/>
                        </a:solidFill>
                        <a:latin typeface="Arial"/>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raverso la valutazione della Commissione sociosanitaria integrata U.V.M./D (Unità di Valutazione Multidimensionale Disabilità) in caso di inserimento in strutture  socio-Riabilitative Diurne/ Residenziali accreditate per disabili gravi</a:t>
                      </a:r>
                      <a:r>
                        <a:rPr b="0" i="1" lang="it-IT" sz="1000" spc="-1" strike="noStrike">
                          <a:solidFill>
                            <a:srgbClr val="000000"/>
                          </a:solidFill>
                          <a:latin typeface="Arial"/>
                        </a:rPr>
                        <a:t> </a:t>
                      </a:r>
                      <a:r>
                        <a:rPr b="0" lang="it-IT" sz="1000" spc="-1" strike="noStrike">
                          <a:solidFill>
                            <a:srgbClr val="000000"/>
                          </a:solidFill>
                          <a:latin typeface="Arial"/>
                        </a:rPr>
                        <a:t>e inserimenti nei centri socio occupazionali ( CSO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7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SONA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viene erogato a mezzo di personale avente profilo socio assistenziale ed esperienza professionale specifica e qualificata. Il servizio sarà distribuito su dodici mensilità con un’articolazione settimanale ed oraria che consente di presidiare il rapporto con gli utenti ed il lavoro di rete con le organizzazioni del territorio garantendo l’erogazione delle prestazioni.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SERVIZIO ADULTI</a:t>
            </a:r>
            <a:endParaRPr b="0" lang="en-US" sz="2800" spc="-1" strike="noStrike">
              <a:solidFill>
                <a:srgbClr val="000000"/>
              </a:solidFill>
              <a:latin typeface="Arial"/>
            </a:endParaRPr>
          </a:p>
        </p:txBody>
      </p:sp>
      <p:sp>
        <p:nvSpPr>
          <p:cNvPr id="56" name="Text Box 92"/>
          <p:cNvSpPr/>
          <p:nvPr/>
        </p:nvSpPr>
        <p:spPr>
          <a:xfrm>
            <a:off x="2286000" y="914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57" name=""/>
          <p:cNvGraphicFramePr/>
          <p:nvPr/>
        </p:nvGraphicFramePr>
        <p:xfrm>
          <a:off x="380880" y="533520"/>
          <a:ext cx="8323560" cy="5798880"/>
        </p:xfrm>
        <a:graphic>
          <a:graphicData uri="http://schemas.openxmlformats.org/drawingml/2006/table">
            <a:tbl>
              <a:tblPr/>
              <a:tblGrid>
                <a:gridCol w="1143000"/>
                <a:gridCol w="2819520"/>
                <a:gridCol w="4361040"/>
              </a:tblGrid>
              <a:tr h="215640">
                <a:tc rowSpan="20">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ea typeface="DejaVu Sans"/>
                        </a:rPr>
                        <a:t>PRESTAZIONI OFFERTE</a:t>
                      </a:r>
                      <a:endParaRPr b="0" lang="en-US" sz="8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ffffff">
                        <a:alpha val="50000"/>
                      </a:srgbClr>
                    </a:solidFill>
                  </a:tcPr>
                </a:tc>
                <a:tc rowSpan="6">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PROGETTUALITA’ INDIVIDUALIZZATE PER PERSONE DISABILI</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648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nsulenza Servizio Sociale professionale </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asti a domicilio </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upporto psicologico</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373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Valutazione sociale professionale per l’attribuzione del punteggio dedicato, volto a supportare l’accesso agli alloggi di edilizia residenziale pubblica in base ai regolamenti comunali</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serimenti in strutture di accoglienza non accreditate per disabili lievi e medi</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628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ervizio Assistenza Domiciliare</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rowSpan="6">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INTERVENTI A SOSTEGNO DEL DISAGIO SOCIALE</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nsulenza Servizio Sociale professionale</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asti a domicilio</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ervizio Assistenza domiciliare</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serimenti in strutture di accoglienza; dormitorio, residenziale, piano emergenza freddo, </a:t>
                      </a:r>
                      <a:r>
                        <a:rPr b="1" lang="it-IT" sz="800" spc="-1" strike="noStrike">
                          <a:solidFill>
                            <a:srgbClr val="ff0000"/>
                          </a:solidFill>
                          <a:latin typeface="Arial Narrow"/>
                        </a:rPr>
                        <a:t>cohousing</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ità di Strada</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4590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Relazione per l’accesso a specifiche forme di sostegno economico ed abitativo (es: montascale, funerale sociale, supporto alle richieste di alloggio erp anche in situazioni di emergenza, servizio assistenza domiciliare ecc)</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5806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SOSTEGNO ALL’AUTONOMIA ED INCLUSIONE LAVORATIVA </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rvizio di Sostegno all’autonomia e alla ricerca del Lavoro (SIL): progetto autonomia, scouting aziendale, tirocini lavorativi di tipo D, inserimenti socializzanti in ambito lavorativo LR 14/15 partecipazione ad equipe per inclusione sociale delle persone in condizioni di fragilità e vulnerabilità; colloqui di orientamento lavorativo; bilancio competenze lavorative</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INTERVENTI DI SOSTEGNO ECONOMICO</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ntributi</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tegrazione retta per strutture residenziali e diurne</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ASSEGNI DI CURA</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Assegno di Cura e sostegno per persone disabili</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373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struttoria per Assegno di Cura (a fondo sanitario) per persone con grave disabilità a seguito di cerebrolesioni e con esiti da traumi cranio-encefalici</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15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SOSTEGNO AI CAREGIVER</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Consulenza, orientamento, supporto ai caregiver</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373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INSERIMENTI IN STRUTTURA SOCIO RIABILITATIVA DIURNA E RESIDENZIALE</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struttoria per inserimento in strutture Socio-Riabilitative Diurne Accreditate e Strutture Socio-Riabilitative Residenziali per disabili gravi , in compartecipazione con Ausl .</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058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Narrow"/>
                        </a:rPr>
                        <a:t>LABORATORI PROTETTI</a:t>
                      </a:r>
                      <a:endParaRPr b="0" lang="en-US" sz="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serimenti in laboratori protetti CSO - Centro socio-occupazionale/lavoro protetto</a:t>
                      </a:r>
                      <a:endParaRPr b="0" lang="en-US" sz="8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SERVIZIO ADULTI</a:t>
            </a:r>
            <a:endParaRPr b="0" lang="en-US" sz="2800" spc="-1" strike="noStrike">
              <a:solidFill>
                <a:srgbClr val="000000"/>
              </a:solidFill>
              <a:latin typeface="Arial"/>
            </a:endParaRPr>
          </a:p>
        </p:txBody>
      </p:sp>
      <p:sp>
        <p:nvSpPr>
          <p:cNvPr id="59" name="Text Box 92"/>
          <p:cNvSpPr/>
          <p:nvPr/>
        </p:nvSpPr>
        <p:spPr>
          <a:xfrm>
            <a:off x="2286000" y="914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60" name=""/>
          <p:cNvGraphicFramePr/>
          <p:nvPr/>
        </p:nvGraphicFramePr>
        <p:xfrm>
          <a:off x="380880" y="685800"/>
          <a:ext cx="8640720" cy="4383000"/>
        </p:xfrm>
        <a:graphic>
          <a:graphicData uri="http://schemas.openxmlformats.org/drawingml/2006/table">
            <a:tbl>
              <a:tblPr/>
              <a:tblGrid>
                <a:gridCol w="2590920"/>
                <a:gridCol w="2895480"/>
                <a:gridCol w="3154320"/>
              </a:tblGrid>
              <a:tr h="24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99ff"/>
                          </a:solidFill>
                          <a:latin typeface="Arial"/>
                          <a:ea typeface="DejaVu Sans"/>
                        </a:rPr>
                        <a:t>PRESTAZIONE OFFERTA</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808080">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ATTIVITA’SOGGETTA A MONITORAGGIO</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64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9900"/>
                          </a:solidFill>
                          <a:latin typeface="Arial"/>
                        </a:rPr>
                        <a:t>INDICATORE DI RILEVAZIONE</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5760">
                      <a:solidFill>
                        <a:srgbClr val="000000"/>
                      </a:solidFill>
                    </a:lnB>
                    <a:solidFill>
                      <a:srgbClr val="808080">
                        <a:alpha val="50000"/>
                      </a:srgbClr>
                    </a:solidFill>
                  </a:tcPr>
                </a:tc>
              </a:tr>
              <a:tr h="248760">
                <a:tc rowSpan="4">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ROGETTUALITA’ INDIVIDUALIZZATE PER PERSONE DISABILI</a:t>
                      </a:r>
                      <a:endParaRPr b="0" lang="en-US" sz="9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 in carico</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prese in carico / n. richieste </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4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etti personalizzati</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Progetti personalizzati / n. prese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4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ti a domicilio</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Utenti con pasti a domicilio / n. utent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7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zio assistenza domiciliare </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Utenti SAD / n. utenti in carico </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76840">
                <a:tc rowSpan="4">
                  <a:txBody>
                    <a:bodyPr lIns="90000" rIns="90000" tIns="46800" bIns="46800" anchor="t">
                      <a:noAutofit/>
                    </a:bodyPr>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NTERVENTI A SOSTEGNO DEL DISAGIO SOCIALE</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ività dell’unità di strada</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Interventi eseguiti / n. segnalazioni</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7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egno operatori</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Utenti in carico / n. operatori</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4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ti a domicilio</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Utenti con pasti a domicilio / n. utent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4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zio assistenza domiciliare </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Utenti SAD / utent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68280">
                <a:tc>
                  <a:txBody>
                    <a:bodyPr lIns="90000" rIns="90000" tIns="46800" bIns="46800" anchor="t">
                      <a:noAutofit/>
                    </a:bodyPr>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SOSTEGNO ALL’AUTONOMIA ED INCLUSIONE LAVORATIVA</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zio erogat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Inserimenti / n. utent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40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NTERVENTI DI SOSTEGNO ECONOMICO</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ibuti economici</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Contributi erogati / n. utenti in carico </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87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ità media del contributo a persona</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038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SSEGNI DI CURA</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ogazione assegni di cura</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Assegni di cura erogati / n. richieste assegni di cura</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042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SOSTEGNO AI CAREGIVER </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onsulenza, orientamento, sostegno ai caregiver</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 Interventi / n.di richieste </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39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NSERIMENTI IN STRUTTURA SOCIO RIABILITATIVA DIURNA E RESIDENZIALE</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erimenti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icoveri di sollievo </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Inserimenti / n. disabili in caric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 Ricoveri di sollievo / n. disabil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r h="247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LABORATORI PROTETTI</a:t>
                      </a:r>
                      <a:endParaRPr b="0" lang="en-US" sz="9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erimenti </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Inserimenti / n. disabili in carico</a:t>
                      </a:r>
                      <a:endParaRPr b="0" lang="en-US" sz="900" spc="-1" strike="noStrike">
                        <a:solidFill>
                          <a:srgbClr val="000000"/>
                        </a:solidFill>
                        <a:latin typeface="Arial"/>
                      </a:endParaRPr>
                    </a:p>
                  </a:txBody>
                  <a:tcPr anchor="t" marL="90000" marR="90000">
                    <a:lnL w="2880">
                      <a:solidFill>
                        <a:srgbClr val="000000"/>
                      </a:solidFill>
                    </a:lnL>
                    <a:lnR w="648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04T11:11:57Z</dcterms:created>
  <dc:creator>Chiarini Monica</dc:creator>
  <dc:description/>
  <dc:language>en-US</dc:language>
  <cp:lastModifiedBy>e.navaro</cp:lastModifiedBy>
  <dcterms:modified xsi:type="dcterms:W3CDTF">2022-04-12T08:21:56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